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533E-2B77-4B00-A844-1DCACFAF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27E8-0E26-4176-A310-6F96C069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5D5F-8077-4A1A-90D3-78038ABDA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5C3D-9D17-4AD2-84E6-7EF478DD3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DFB1-5236-4297-88EC-8DF8E2D2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97C4-490B-4556-9658-0F5EFF5B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EAC9-85C7-4390-B8CE-A100C6F0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4B1D-0E4C-451A-88A9-5DEC4F55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BE99-15FC-4047-88C5-1CC9020B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C53E-95CB-4B46-8365-032F90C4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DDE2-9CE6-4B51-A26B-82562DA7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2F06-961C-4CEE-9209-34DE316B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67BC-8ECC-4AA5-9773-DD3397288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53352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6858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2743200" y="6172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1722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048120" y="525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048120" y="29718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8564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3886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971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29718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410080"/>
            <a:ext cx="761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295280" y="38858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76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Rez de Chauss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403848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bliothè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Times New Roman"/>
              </a:rPr>
              <a:t>Pièce de je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1752480"/>
            <a:ext cx="2743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on, Salle à Ma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Times New Roman"/>
              </a:rPr>
              <a:t>Pièce de je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40384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i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48006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4724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5715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1371600"/>
            <a:ext cx="1676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 : Pla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 : Esca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 flipV="1">
            <a:off x="53352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6858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743200" y="6172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61722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86200" y="525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88620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28564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3886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3886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199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5410080"/>
            <a:ext cx="761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5715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81680" y="1371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 : Esca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76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Premier E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3429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5480" y="685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685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88620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89512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4479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Marie-L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12952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25146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e de B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295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Cordél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441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Pa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4800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eau de Pa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086600" y="1371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Esca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76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Deuxième E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3352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6858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743200" y="6172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1722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00600" y="3886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8564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5410080"/>
            <a:ext cx="761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715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3429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685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7080" y="685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1143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88620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89512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14479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Mari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12952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25146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e de B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1295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’am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45720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Ly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43434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ébar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41936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3886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4952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51814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e de bains des domest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44197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hambre de Marle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7520" y="13716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0T16:29:59Z</dcterms:created>
  <dc:creator>Pavilion Notebook User</dc:creator>
  <dc:description/>
  <dc:language>en-US</dc:language>
  <cp:lastModifiedBy>austin powers</cp:lastModifiedBy>
  <dcterms:modified xsi:type="dcterms:W3CDTF">2002-05-06T21:06:28Z</dcterms:modified>
  <cp:revision>8</cp:revision>
  <dc:subject/>
  <dc:title>Présentation PowerPoint</dc:title>
</cp:coreProperties>
</file>